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D2100-DD15-48B2-9F0B-44902B19FC99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E118D-F7A2-4453-8D50-90A0DF0F3D61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83F43-9927-49E4-AD32-76F73F1CF232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83881-9624-4AA0-8D05-0AA3D8D6771A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B575F-D6D2-4C63-86BB-C5021EFA1354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BDE5B-9C19-4442-83D6-C31FFDBA65F1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A845F-E38B-4612-91D0-46982D402E17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60ABB-2ECA-4834-B4EF-EC9A4366C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DF0E9-A72B-4127-BB65-7479E74A8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ADD96-2DA3-46D8-AC56-20D671E3E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5DEBD-73EC-4C4F-A18B-9E2575F5F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AA0B2-F792-4471-9444-31FF13DE1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5EA92-35AD-4D33-8498-D55231054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B377F-92D5-4E35-B100-D694C311A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9E917-524D-4FCF-A82E-E625D3D2C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51243-B3A3-48A3-8D29-322BCBD56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530B5-507D-4883-8154-F5354F818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03DF5-886E-4C56-80FB-BFEFBFAC5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DDDB3-5B90-43FC-A8C3-45F5E8A83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F62DC-3531-4043-8D6A-DC9993411E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, what are the detail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Re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cyclic &amp; Cyclic Electron F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t’s visit the Khan Academy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 is Sal Kha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</a:rPr>
              <a:t>http://www.khanacademy.org/#brow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ntastic explanation of electron transport in photosynthesis (20 minutes lo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</a:rPr>
              <a:t>http://www.khanacademy.org/video/photosynthesis---light-reactions-and-photophosphorylation?playlist=Bi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ncyclic Electron Flow</a:t>
            </a:r>
            <a:br>
              <a:rPr sz="4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iws.collin.edu/biopage/faculty/mcculloch/1406/outlines/chapter%2010/chap10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Rectangle 3" descr=""/>
          <p:cNvPicPr/>
          <p:nvPr/>
        </p:nvPicPr>
        <p:blipFill>
          <a:blip r:embed="rId1"/>
          <a:stretch/>
        </p:blipFill>
        <p:spPr>
          <a:xfrm>
            <a:off x="1554120" y="1600200"/>
            <a:ext cx="6033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yclic Electron Fl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vol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photosynthetic organisms have the components of cyclic photophosphory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gae and plants have added components to the original system to make it more effici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rtual cell movie on Electron Transport Chain in Photosynthes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</a:rPr>
              <a:t>http://vcell.ndsu.edu/animations/photosynthesis/movie-flash.ht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cGraw-Hill Ryerson narrated anim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</a:rPr>
              <a:t>http://highered.mcgraw-hill.com/olcweb/cgi/pluginpop.cgi?it=swf::535::535::/sites/dl/free/0072437316/120072/bio13.swf::Photosynthetic%20Electron%20Transport%20and%20ATP%20Synth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-353880" y="6937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cGraw-Hill Ryerson self-quiz…try it!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</a:rPr>
              <a:t>http://highered.mcgraw-hill.com/sites/0073383198/student_view0/chapter3/animation_quiz_-_photosynthetic_electron_transport_and_atp_synthesis.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-353880" y="6937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otosynthesis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Light Re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otoexci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ctron trans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miosmo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otoexci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ctrons in chlorophyll ar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xcit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y light energy to a higher potential energy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photosynthetic membranes, the excited electrons are captured by molecules calle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rimary electron accep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chloroplasts, photoexcitation occurs in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hoto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otosystems</a:t>
            </a:r>
            <a:br>
              <a:rPr sz="4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bilingualbiology11a.blogspot.com/2011/01/photosynthesi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ntenna comple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as chlorophyll molecules and accessory pigments in a protein matri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reaction cent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ntains chlorophyll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whose electrons get exci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Rectangle 3" descr=""/>
          <p:cNvPicPr/>
          <p:nvPr/>
        </p:nvPicPr>
        <p:blipFill>
          <a:blip r:embed="rId1"/>
          <a:stretch/>
        </p:blipFill>
        <p:spPr>
          <a:xfrm>
            <a:off x="4648320" y="2108160"/>
            <a:ext cx="4038480" cy="350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oto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Photo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2" descr="http://fig.cox.miami.edu/~cmallery/150/phts/c7.10.12PS.jpg"/>
          <p:cNvPicPr/>
          <p:nvPr/>
        </p:nvPicPr>
        <p:blipFill>
          <a:blip r:embed="rId1"/>
          <a:stretch/>
        </p:blipFill>
        <p:spPr>
          <a:xfrm>
            <a:off x="4419720" y="1752480"/>
            <a:ext cx="3267000" cy="40482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4" descr="http://fig.cox.miami.edu/~cmallery/150/phts/PS.jpg"/>
          <p:cNvPicPr/>
          <p:nvPr/>
        </p:nvPicPr>
        <p:blipFill>
          <a:blip r:embed="rId2"/>
          <a:stretch/>
        </p:blipFill>
        <p:spPr>
          <a:xfrm>
            <a:off x="685800" y="2438280"/>
            <a:ext cx="389556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otosystems</a:t>
            </a:r>
            <a:br>
              <a:rPr sz="4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photochembgsu.com/students/maria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otosystem I has chlorophyll P7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otosystem II has chlorophyll P68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Rectangle 3" descr=""/>
          <p:cNvPicPr/>
          <p:nvPr/>
        </p:nvPicPr>
        <p:blipFill>
          <a:blip r:embed="rId1"/>
          <a:stretch/>
        </p:blipFill>
        <p:spPr>
          <a:xfrm>
            <a:off x="4648320" y="2344680"/>
            <a:ext cx="4038480" cy="30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ctron Transport</a:t>
            </a:r>
            <a:br>
              <a:rPr sz="4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163.16.28.248/bio/activelearner/08/ch8c2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Rectangle 3" descr=""/>
          <p:cNvPicPr/>
          <p:nvPr/>
        </p:nvPicPr>
        <p:blipFill>
          <a:blip r:embed="rId1"/>
          <a:stretch/>
        </p:blipFill>
        <p:spPr>
          <a:xfrm>
            <a:off x="766800" y="1600200"/>
            <a:ext cx="76104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1T02:53:26Z</dcterms:created>
  <dc:creator>james</dc:creator>
  <dc:description/>
  <dc:language>en-US</dc:language>
  <cp:lastModifiedBy>rubina khan</cp:lastModifiedBy>
  <dcterms:modified xsi:type="dcterms:W3CDTF">2011-10-28T04:14:30Z</dcterms:modified>
  <cp:revision>87</cp:revision>
  <dc:subject/>
  <dc:title>Slide 1</dc:title>
</cp:coreProperties>
</file>